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8263-980D-46E4-B8CD-E1DF058B43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ffere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acteristics – are the category of a trai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, height, likes/disli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s – the physical, social, and emotional qualities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blue eyes, tall, hates carr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– when a majority of an organism shows the trai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most pea plants show as 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Trait – when a minority of an organism shows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few pea plants show as sh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eles – all the possible choices for a 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eye color – blue, brown, gray,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he genes code for a specific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dominant it uses a capital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Tall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trait is recessive it uses the same letter but lower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short 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s always have two letters – one for dad and one for m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g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dominant – the genes only have the dominant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Dominant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rebred (homozygous) recessive – the genes only have the recessive trait in its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Recessive short –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brid (heterozygous) – the genes are mixed code for that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– hybrid Tall -- 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utward appearance of the tra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l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n organism f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cks to remembering the difference between Genotype and Phenotyp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otype – deals with GENE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notype – deals with looks you can take a PHOTO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C5C-9BE1-4A67-B4FA-602940CCA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BFB-DC73-4D30-B391-7DAD9355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385-A6F4-44E6-BCC7-9508847D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B4D-B0D8-4D28-861A-DD9CEC31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0C23-86FF-44C1-8FAC-0AA27006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DC50-F195-4E3B-A718-6808FB8B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2A50-5791-4F69-B923-63C8ABED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1D7F-17C8-46EF-9B43-AC53185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69E8-2A2A-4288-B2C1-E7DB8971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FEE8-47C3-4A8D-8B21-C95E03C5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6CCC-FABE-4362-86F4-148B4F1F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B70E-F7BA-4155-964D-9FF7479D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EB54-3E8D-4598-A57C-83782B0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49B6-8371-4332-8177-4358BAF8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8147-4BEF-4665-A51A-CEC076C1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F9A18-EF67-432B-A473-EF3232A6F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AB99-26D4-4ABD-B6F3-1573D89A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4A19-644D-4BC4-88F1-CA77D39F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0F8E-4434-43FF-A065-7C91F1D6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F9EBD-2856-4360-99F3-D98A7C72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6CE82-13FA-46FC-992E-0CE65179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8713-CDCD-4993-99CB-DF49E6BB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7DB-E375-4BD9-A939-B9C1DCEF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C4B9B-7A12-4049-B023-7BE36BEB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011DA-96AE-48A8-B556-B9B79ACC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53F08-A5DB-4996-990C-EA8A47C8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9EA2-9CD9-4CD1-80C6-AA3E5C7C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DB4C-011D-4E3A-9C6C-D0868338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2A2B-BB15-4D17-A352-D30783A9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29F4F-EE1A-418F-B5BE-5C12E757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640B4-B493-4EA3-A508-36E7BAC6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F387F-790C-4B5A-AC43-98EB352A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1BFBD-FAB9-453E-A923-40822E81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1B6-F4EE-4B75-9A68-1DAC886D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62381-9713-4A38-A513-1628F4CC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52BDB-3A64-4D72-A075-0FC2F8F0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FE85B-B884-4753-98E7-C8C28336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52F6E-BBE4-4BC8-ABF5-E3EAEF06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DFF1-14FA-42F2-A717-97D9278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AC444-8D07-46FD-AD6B-C3FEFF94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52D4-682E-4F20-BAC8-CF8A46B1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32D1F-C19C-4054-AE62-966BC4CA9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B014-52AA-41AE-BE4E-FAFACF7C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9497F-D777-4248-8F31-DEF1B902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430-F006-4B0F-8301-ABCE44A3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CAC56-D394-48F2-9B5B-B4A5C134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B4C9-74E0-4365-A534-BB6490BC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8E5F8-7E7A-4D00-8329-D5E5C2B8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1CDE4-09D9-416D-98F0-1AB6FA7B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532F3-AA7C-4D68-99A4-A2E84AA0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58AAF-1F39-45D5-A673-08940F0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BC46B-DC2C-44D2-9F8D-B351DC8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3E1C8-BC07-4046-B025-062B2ACE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97324-CE4C-4B85-9911-34AB5E2E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C6ADC-88FB-404D-A8C9-4E2BCA613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4EC6-BBAC-4DC6-9B16-216B5A2B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A3B2-FE17-4FFE-B679-D104216F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8AE57-83CD-40C4-8116-08B4DB15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0086F-F09A-4F2B-8A64-48C6A6D3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8320E-D574-4B10-B588-D82C1261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ECA1B-3F59-4502-B5E3-E39E4F32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730BC-14D8-47F2-BE1E-B0A6051E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F8390-27C5-428B-A6B1-2981AB60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2CA9B-E8C2-4329-9538-8165FA9E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FD77E-12FC-4470-8439-26FCB7E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BAD22-57FA-4CF3-A681-997D25F4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54EC-7E6B-48F7-B36D-68C33F06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48493-C494-4060-82C2-8E8C701D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C0D8D-03E2-4C5A-B21A-EBF93645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1AF30-6475-4873-B78E-2386ECE2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E3935-B1C7-48BB-A3BA-19040401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D293B-ED4E-4A43-B4A8-7A371463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F73A7-B7D5-49DF-91DD-CEDC93C5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9021D-148C-4BFB-9577-8BD2D02C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ED069-9D54-4E7F-A181-170A19FF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7237E-39E3-4DE9-A8B6-BED8212A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4DE30-4A13-49EE-AEFB-D72C4809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94AC-D310-4D37-87A3-1D945027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96CDB-3AC0-4831-AF03-26A6E2E8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0C576-04DC-4AE5-896D-3DC18B2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8357A-392C-44C1-AE3E-7071EC80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0D2FA-1021-4E83-86B7-065D03F0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45467-16F9-4F89-B1C4-67478990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31F5D-0081-4516-9ECE-59F54ED8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B85EC-5C01-4EC4-A805-82FF994E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B1F6F-8E0B-4EE6-A2C5-EFDE3C88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54F03-47A0-4FE1-BCB4-A3630071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9FB37-3358-4C58-91FF-9C394CC1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245-D7EA-4E37-AD66-AB792B74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F4DEA-DBBE-4D18-BEF5-96132494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3A526-7E66-4698-9725-29AE097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19A52-57D9-4635-8AD6-A7D8C722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30E6-4391-418A-8744-D0CC0F5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37E62-72B0-487F-A80F-95015995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EC4BF-7A67-4B91-94D6-433691E8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A99EC-A5BA-4444-BE43-CBA1EBC7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693A-15CE-4CE1-A221-0371FE0DF955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6B44-52D4-434A-A1E4-C3F97B60A85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284F-1CE6-4AD5-8A4A-65E01D85474B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90BA-5209-462F-AE2C-713B1C71E7A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55E2-1198-4CB7-A483-7996EDB0265F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9447-E4BF-49FC-96F8-70E6ECAA24CD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7973-7D02-45CF-A5C5-580484AF075E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4D9A-D51E-4351-83D4-4D91E9608F4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3AAC-98ED-4ED3-A51D-E771D16E592C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C63B-30CA-42F9-8D6E-1231499065EF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D008-B793-4114-8568-D6F85A1DC7B1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F435-C2A0-4777-9786-38BC0DD216B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82D78-A528-40B3-9576-D7ED8AF0DDDB}" type="datetime">
              <a:rPr b="0" lang="en-US" sz="1400" spc="-1" strike="noStrike">
                <a:solidFill>
                  <a:srgbClr val="dde9ec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19E3-E027-43F8-BA9F-46B99F5BF3D8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7661-414F-4CDA-AC9D-BB401B755A6C}" type="datetime">
              <a:rPr b="0" lang="en-US" sz="1400" spc="-1" strike="noStrike">
                <a:solidFill>
                  <a:srgbClr val="464653"/>
                </a:solidFill>
                <a:latin typeface="Gill Sans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DD5-460A-4539-A9CD-8B500A88F24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 and Phenotyp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Місце для нижнього колонтитула 1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view Word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re the category of a trait –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, height, likes/dislike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Trai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the physical, social, and emotional qualities of an organ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blue eyes, tall, hates carrots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Dominant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ajority of an organism shows the trait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most pea plants show as tall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Recessive Trai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– when a minority of an organism shows the trai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few pea plants show as short 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lle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all the possible choices for a characteristi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100" spc="-1" strike="noStrike">
                <a:solidFill>
                  <a:srgbClr val="ff0000"/>
                </a:solidFill>
                <a:latin typeface="Gill Sans MT"/>
              </a:rPr>
              <a:t>eye color – blue, brown, gray, green</a:t>
            </a:r>
            <a:endParaRPr b="0" lang="en-US" sz="21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How the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genes code for a specific trai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dominant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a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capital letter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Tall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If the trait i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recessive</a:t>
            </a: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 it uses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the same letter but lower case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3000" spc="-1" strike="noStrike">
                <a:solidFill>
                  <a:srgbClr val="ff0000"/>
                </a:solidFill>
                <a:latin typeface="Gill Sans MT"/>
              </a:rPr>
              <a:t>short (t)</a:t>
            </a:r>
            <a:endParaRPr b="0" lang="en-US" sz="3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Gill Sans MT"/>
              </a:rPr>
              <a:t>Genotypes always have two letters – </a:t>
            </a:r>
            <a:r>
              <a:rPr b="0" lang="en-US" sz="3300" spc="-1" strike="noStrike">
                <a:solidFill>
                  <a:srgbClr val="ff0000"/>
                </a:solidFill>
                <a:latin typeface="Gill Sans MT"/>
              </a:rPr>
              <a:t>one for dad and one for mom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Types of g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dominant – the genes only have the dominant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Dominant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ebre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om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recessive – the genes only have the recessive trait in its cod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Recessive short –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ybrid (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heterozygou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– the genes are mixed code for that trait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Example – 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hybrid Tall -- Tt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ookman Old Style"/>
              </a:rPr>
              <a:t>Phenotype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The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outward appearance </a:t>
            </a: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of the trait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look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act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How an organism </a:t>
            </a:r>
            <a:r>
              <a:rPr b="0" lang="en-US" sz="4400" spc="-1" strike="noStrike">
                <a:solidFill>
                  <a:srgbClr val="ff0000"/>
                </a:solidFill>
                <a:latin typeface="Gill Sans MT"/>
              </a:rPr>
              <a:t>feels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Tricks to remembering the difference between Genotype and Phenotype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	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Genotype – deals with GENE CODE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Gill Sans MT"/>
              </a:rPr>
              <a:t>Phenotype – deals with looks you can take a PHOTO with.</a:t>
            </a:r>
            <a:endParaRPr b="0" lang="en-US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Місце для нижнього колонтитула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7:19:27Z</dcterms:created>
  <dc:creator>CCSD</dc:creator>
  <dc:description/>
  <dc:language>en-US</dc:language>
  <cp:lastModifiedBy>LEGION2</cp:lastModifiedBy>
  <dcterms:modified xsi:type="dcterms:W3CDTF">2016-01-12T11:10:10Z</dcterms:modified>
  <cp:revision>12</cp:revision>
  <dc:subject/>
  <dc:title>Genotype and Phenotype</dc:title>
</cp:coreProperties>
</file>